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A8E-6938-4169-9E2F-3A69E146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392-2F77-4369-B73C-91BF9E33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679-CB75-4FB8-97E3-87861843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C57-3B00-4EBF-8DFF-664E480E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397-561A-428E-A4F4-1530135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831-7BB7-4804-B01D-3CAAA4B9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751-44F9-433D-852B-8B55C866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79D-D91C-4062-B2DD-5A6F57F1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BD5-5142-4BE5-91BF-C8A55FF6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9F2-5AC5-4E1B-B377-882BACD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911-CBB6-44BD-AF10-19C159E8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73B-BD18-4DB6-A217-BF36990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8BB5-5952-4141-A72D-2D5BE41AB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uardie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28600"/>
            <a:ext cx="79250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Provincia di Bolog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MeDeC  - Centro Demoscopico Metropolit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ahoma"/>
              </a:rPr>
              <a:t>con la collaborazione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ahoma"/>
              </a:rPr>
              <a:t>Regione Emilia-Romagna - Progetto Città Si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Il problema della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nella percezione dei citta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ilevazione demoscopica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Tahoma"/>
              </a:rPr>
              <a:t>Principali risult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Tahoma"/>
              </a:rPr>
              <a:t>Campione allargato per la provincia di Bolo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533520"/>
            <a:ext cx="778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8. Percentuale di persone che considera il proprio comune poco o per niente sicuro rispetto alla criminalità nel giugno 2002 e nel giugno 2003, a Bologna città, nel resto della provincia e nel resto della regione Emilia-Romag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3360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771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2. Il contesto ambientale 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la vittimizz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09480"/>
            <a:ext cx="8050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9. Percentuale di persone che dichiara qualche fattore di disagio nella propria zona di residenza, nel giugno 2002 e nel giugno 2003, a Bologna città, nel resto della provincia di Bologna e nel resto della regione Emilia-Romag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00100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09480"/>
            <a:ext cx="8050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10.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uale di persone che dichiara almeno un fattore di disagio legato alla “vittimizzazione” nella propria zona di residenza, nel giugno 2002 e nel giugno 2003, a Bologna città, nel resto della provincia di Bologna e nel resto della regione Emilia-Romag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685800"/>
            <a:ext cx="7631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11. Percentuale di persone che hanno subito un reato o più nei 12 mesi precedenti l’intervista, nel giugno 2002 e nel giugno 2003, a Bologna città, nel resto della provincia di Bologna e nel resto della regione Emilia-Romag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685800"/>
            <a:ext cx="7631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12. Numero di reati denunciati alle forze dell’ordine nella provincia di Bologna, dal 1986 al 200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527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668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685800"/>
            <a:ext cx="763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13. Numero di reati denunciati alle forze dell’ordine ogni 100 abitanti, a Bologna città e nel resto della provincia di Bologna, dal 1986 al 200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7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477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762120"/>
            <a:ext cx="763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14. Numero di furti denunciati alle forze dell’ordine ogni 100 abitanti, in provincia di Bologna, per tipo di furto; dal 1986 al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27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771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3. Il senso di insicurez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53352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15. Percentuale di persone che si dichiarano poco o per niente sicure la sera quando camminano da sole nella zona di residenza, nel giugno 2002 e nel giugno 2003, a Bologna città, nel resto della provincia di Bologna e nel resto della regione Emilia-Romag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771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1. La preoccupazione soc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797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. Percentuale di persone che indicano alcuni temi fra i primi tre problemi della realtà di oggi; valori al giugno 2003 per Bologna città e nel resto della provinci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39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 I temi in calo negli ultimi tre anni. Percentuale di persone che indica il tema tra i primi tre problemi nella realtà di oggi. Valori riferiti alla provincia di Bologna del giugno 2000, del giugno 2001, del giugno 2002 e del giugno 2003.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892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62120"/>
            <a:ext cx="8229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 I temi in calo nell’ultimo anno. Percentuale di persone che indica il tema tra i primi tre problemi nella realtà di oggi. Valori riferiti alla provincia di Bologna del giugno 2000, del giugno 2001, del giugno 2002 e del giugno 2003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95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 I temi in aumento nell’ultimo anno. Percentuale di persone che indica il tema tra i primi tre problemi nella realtà di oggi. Valori riferiti alla provincia di Bologna del giugno 2000, del giugno 2001, del giugno 2002 e del giugno 2003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609480"/>
            <a:ext cx="8076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. Percentuale di persone che considera la criminalità in aumento in Italia dal 2000 al 2003 nella Provincia di Bologna e nel resto della Reg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672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430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6094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 Percentuale di persone che considera aumentata la criminalità nel proprio comune nel corso dell’ultimo anno nel giugno 2002 e nel giugno 2003, a Bologna città, nel resto della provincia di Bologna e nel resto della regione Emilia-Romagn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672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430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685800"/>
            <a:ext cx="8001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Fig. 7.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uale di persone che considera la qualità della vita peggiorata (molto o lievemente) e migliorata (molto o lievemente), nell’ultimo periodo a Bologna città, nel resto della Provincia  e nel resto della Regione. Valori percentuali sul totale dei rispondenti, giugno 2003.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- Il problema della sicurezza nella percezione dei cittadini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1676520"/>
          <a:ext cx="784872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4:53:30Z</dcterms:created>
  <dc:creator>UTENTE</dc:creator>
  <dc:description/>
  <dc:language>en-US</dc:language>
  <cp:lastModifiedBy>UTENTE</cp:lastModifiedBy>
  <dcterms:modified xsi:type="dcterms:W3CDTF">2003-09-23T14:25:09Z</dcterms:modified>
  <cp:revision>41</cp:revision>
  <dc:subject/>
  <dc:title>Presentazione di PowerPoint</dc:title>
</cp:coreProperties>
</file>